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7E17-085D-4D20-B813-95B73BB49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3B38-9AB1-4E93-BDB2-0FBF5E50E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E576-D27F-40A7-8524-768F9B7B0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9E66-FBB8-4688-910A-820275236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A0F4-6DB1-4F0E-9DEA-C248765CA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F504-5A75-4F57-AC4A-0031E890D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E0EF-4BBC-430B-A20F-692F4EB22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1A69-0C6B-48B3-B658-6457550C9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E08C-FE4A-47A0-9DF5-B0EFE0E3D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B04A-A637-4E5F-A8B5-2CAAE3B03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8E3B-3D3A-4956-A4CA-4F8457394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8EE8-99E9-446C-8F6F-10C49B26A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499F-9D52-44D4-B77C-620129029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A215-86BE-4680-B521-674ECB68B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EA9E-1174-47F6-9B54-C5C6B4B02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F482-F8BF-41B5-BA4D-94E859270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CEE3-3D1C-4DAB-9E51-C84404C8A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B149-64C7-45DF-8AAC-2773CFFC0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E934-C365-466E-A107-B2663EF7D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626B-C71B-4964-8627-DADAE25EB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8C75-7B60-4532-9B6D-D66E39ED5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1691-43DE-4BF9-8DF5-8D9D91CD9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826C-A677-4833-A7DB-8DF1285C8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2E43-FBDF-4193-A46E-7E5EA04CE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8198-35E8-4FEC-A8BA-827C51A46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B010-886E-4618-B185-3D6E9F8B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9E19-1564-403E-A099-670B2634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9871-536C-4612-9562-672E28D5E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363A-E00E-4D6F-93E1-423D05A9B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3E80-29A1-43C6-91FF-915A3491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4574-89EF-40CC-ABD5-8B8ACFFA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B9A2-57AF-4570-8137-06486EF8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7ED7-1121-4483-85FD-AF0F9BFC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F91A-E86C-4628-B327-AE7CCD44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0B77-A532-424A-9878-9EC8A56E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DDD7-781A-44B0-91F8-55D50AD2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E91F-EB8E-4DE6-A12B-1E1C0515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B762-130D-4012-9D4C-A903E9E43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brane structure and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1" descr="0102a-f"/>
          <p:cNvPicPr/>
          <p:nvPr/>
        </p:nvPicPr>
        <p:blipFill>
          <a:blip r:embed="rId1"/>
          <a:stretch/>
        </p:blipFill>
        <p:spPr>
          <a:xfrm>
            <a:off x="0" y="2209680"/>
            <a:ext cx="4557600" cy="2428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1" descr="0102g-k"/>
          <p:cNvPicPr/>
          <p:nvPr/>
        </p:nvPicPr>
        <p:blipFill>
          <a:blip r:embed="rId2"/>
          <a:stretch/>
        </p:blipFill>
        <p:spPr>
          <a:xfrm>
            <a:off x="4557600" y="2209680"/>
            <a:ext cx="45720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brane perme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lasma membrane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lectively perme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1" descr="0506"/>
          <p:cNvPicPr/>
          <p:nvPr/>
        </p:nvPicPr>
        <p:blipFill>
          <a:blip r:embed="rId1"/>
          <a:stretch/>
        </p:blipFill>
        <p:spPr>
          <a:xfrm>
            <a:off x="88920" y="1708200"/>
            <a:ext cx="8964720" cy="52261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1371600" y="3352680"/>
            <a:ext cx="6340320" cy="82548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ntrols the flow of substances that can pass freely across the membra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centration gradi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ccurs when there is a difference in concentration between two adjacent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4572000" y="4191120"/>
            <a:ext cx="0" cy="25146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054080" y="37339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5641920" y="36576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7"/>
          <p:cNvSpPr/>
          <p:nvPr/>
        </p:nvSpPr>
        <p:spPr>
          <a:xfrm>
            <a:off x="1676520" y="4800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8"/>
          <p:cNvSpPr/>
          <p:nvPr/>
        </p:nvSpPr>
        <p:spPr>
          <a:xfrm>
            <a:off x="1371600" y="50292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9"/>
          <p:cNvSpPr/>
          <p:nvPr/>
        </p:nvSpPr>
        <p:spPr>
          <a:xfrm>
            <a:off x="5562720" y="52578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0"/>
          <p:cNvSpPr/>
          <p:nvPr/>
        </p:nvSpPr>
        <p:spPr>
          <a:xfrm>
            <a:off x="2438280" y="44197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1"/>
          <p:cNvSpPr/>
          <p:nvPr/>
        </p:nvSpPr>
        <p:spPr>
          <a:xfrm>
            <a:off x="190512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2"/>
          <p:cNvSpPr/>
          <p:nvPr/>
        </p:nvSpPr>
        <p:spPr>
          <a:xfrm>
            <a:off x="3200400" y="45720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3"/>
          <p:cNvSpPr/>
          <p:nvPr/>
        </p:nvSpPr>
        <p:spPr>
          <a:xfrm>
            <a:off x="2743200" y="4800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4"/>
          <p:cNvSpPr/>
          <p:nvPr/>
        </p:nvSpPr>
        <p:spPr>
          <a:xfrm>
            <a:off x="2819520" y="6248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5"/>
          <p:cNvSpPr/>
          <p:nvPr/>
        </p:nvSpPr>
        <p:spPr>
          <a:xfrm>
            <a:off x="3429000" y="6248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6"/>
          <p:cNvSpPr/>
          <p:nvPr/>
        </p:nvSpPr>
        <p:spPr>
          <a:xfrm>
            <a:off x="2133720" y="6248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>
            <a:off x="3809880" y="45720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>
            <a:off x="2209680" y="44956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9"/>
          <p:cNvSpPr/>
          <p:nvPr/>
        </p:nvSpPr>
        <p:spPr>
          <a:xfrm>
            <a:off x="5791320" y="61722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20"/>
          <p:cNvSpPr/>
          <p:nvPr/>
        </p:nvSpPr>
        <p:spPr>
          <a:xfrm>
            <a:off x="6705720" y="49528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>
            <a:off x="2590920" y="57150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22"/>
          <p:cNvSpPr/>
          <p:nvPr/>
        </p:nvSpPr>
        <p:spPr>
          <a:xfrm>
            <a:off x="609480" y="6172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23"/>
          <p:cNvSpPr/>
          <p:nvPr/>
        </p:nvSpPr>
        <p:spPr>
          <a:xfrm>
            <a:off x="685800" y="4800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4"/>
          <p:cNvSpPr/>
          <p:nvPr/>
        </p:nvSpPr>
        <p:spPr>
          <a:xfrm>
            <a:off x="1447920" y="57913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25"/>
          <p:cNvSpPr/>
          <p:nvPr/>
        </p:nvSpPr>
        <p:spPr>
          <a:xfrm>
            <a:off x="2057400" y="57913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26"/>
          <p:cNvSpPr/>
          <p:nvPr/>
        </p:nvSpPr>
        <p:spPr>
          <a:xfrm>
            <a:off x="3886200" y="54100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ontrols the flow of substances that can pass freely across the membra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centration gradi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ccurs when there is a different in concentration between two adjacent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"/>
          <p:cNvSpPr/>
          <p:nvPr/>
        </p:nvSpPr>
        <p:spPr>
          <a:xfrm>
            <a:off x="4572000" y="4191120"/>
            <a:ext cx="0" cy="25146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054080" y="37339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5641920" y="36576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6"/>
          <p:cNvSpPr/>
          <p:nvPr/>
        </p:nvSpPr>
        <p:spPr>
          <a:xfrm>
            <a:off x="1676520" y="4800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7"/>
          <p:cNvSpPr/>
          <p:nvPr/>
        </p:nvSpPr>
        <p:spPr>
          <a:xfrm>
            <a:off x="1371600" y="50292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8"/>
          <p:cNvSpPr/>
          <p:nvPr/>
        </p:nvSpPr>
        <p:spPr>
          <a:xfrm>
            <a:off x="5562720" y="52578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9"/>
          <p:cNvSpPr/>
          <p:nvPr/>
        </p:nvSpPr>
        <p:spPr>
          <a:xfrm>
            <a:off x="2438280" y="44197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0"/>
          <p:cNvSpPr/>
          <p:nvPr/>
        </p:nvSpPr>
        <p:spPr>
          <a:xfrm>
            <a:off x="190512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1"/>
          <p:cNvSpPr/>
          <p:nvPr/>
        </p:nvSpPr>
        <p:spPr>
          <a:xfrm>
            <a:off x="3200400" y="45720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2"/>
          <p:cNvSpPr/>
          <p:nvPr/>
        </p:nvSpPr>
        <p:spPr>
          <a:xfrm>
            <a:off x="2743200" y="4800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3"/>
          <p:cNvSpPr/>
          <p:nvPr/>
        </p:nvSpPr>
        <p:spPr>
          <a:xfrm>
            <a:off x="2819520" y="6248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4"/>
          <p:cNvSpPr/>
          <p:nvPr/>
        </p:nvSpPr>
        <p:spPr>
          <a:xfrm>
            <a:off x="3429000" y="6248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5"/>
          <p:cNvSpPr/>
          <p:nvPr/>
        </p:nvSpPr>
        <p:spPr>
          <a:xfrm>
            <a:off x="2133720" y="6248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6"/>
          <p:cNvSpPr/>
          <p:nvPr/>
        </p:nvSpPr>
        <p:spPr>
          <a:xfrm>
            <a:off x="3809880" y="45720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7"/>
          <p:cNvSpPr/>
          <p:nvPr/>
        </p:nvSpPr>
        <p:spPr>
          <a:xfrm>
            <a:off x="2209680" y="44956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8"/>
          <p:cNvSpPr/>
          <p:nvPr/>
        </p:nvSpPr>
        <p:spPr>
          <a:xfrm>
            <a:off x="5791320" y="61722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9"/>
          <p:cNvSpPr/>
          <p:nvPr/>
        </p:nvSpPr>
        <p:spPr>
          <a:xfrm>
            <a:off x="6705720" y="49528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0"/>
          <p:cNvSpPr/>
          <p:nvPr/>
        </p:nvSpPr>
        <p:spPr>
          <a:xfrm>
            <a:off x="2590920" y="57150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21"/>
          <p:cNvSpPr/>
          <p:nvPr/>
        </p:nvSpPr>
        <p:spPr>
          <a:xfrm>
            <a:off x="609480" y="6172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2"/>
          <p:cNvSpPr/>
          <p:nvPr/>
        </p:nvSpPr>
        <p:spPr>
          <a:xfrm>
            <a:off x="685800" y="4800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23"/>
          <p:cNvSpPr/>
          <p:nvPr/>
        </p:nvSpPr>
        <p:spPr>
          <a:xfrm>
            <a:off x="1447920" y="57913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4"/>
          <p:cNvSpPr/>
          <p:nvPr/>
        </p:nvSpPr>
        <p:spPr>
          <a:xfrm>
            <a:off x="2057400" y="57913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25"/>
          <p:cNvSpPr/>
          <p:nvPr/>
        </p:nvSpPr>
        <p:spPr>
          <a:xfrm>
            <a:off x="3886200" y="54100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ontrols the flow of substances that can pass freely across the membra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7"/>
          <p:cNvSpPr/>
          <p:nvPr/>
        </p:nvSpPr>
        <p:spPr>
          <a:xfrm>
            <a:off x="4114800" y="5181480"/>
            <a:ext cx="1143000" cy="0"/>
          </a:xfrm>
          <a:prstGeom prst="line">
            <a:avLst/>
          </a:prstGeom>
          <a:ln w="475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8"/>
          <p:cNvSpPr/>
          <p:nvPr/>
        </p:nvSpPr>
        <p:spPr>
          <a:xfrm>
            <a:off x="4952880" y="2652840"/>
            <a:ext cx="3749760" cy="1557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ances will move down their concentration gradients (from an area of high to low concent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4422600" y="5915160"/>
            <a:ext cx="466740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ovement is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ontrols the flow of substances that can pass freely across the membra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1"/>
          <p:cNvSpPr/>
          <p:nvPr/>
        </p:nvSpPr>
        <p:spPr>
          <a:xfrm>
            <a:off x="517680" y="1447920"/>
            <a:ext cx="832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-the movement of molecules or ions down a concentration grad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1" descr="0507"/>
          <p:cNvPicPr/>
          <p:nvPr/>
        </p:nvPicPr>
        <p:blipFill>
          <a:blip r:embed="rId1"/>
          <a:stretch/>
        </p:blipFill>
        <p:spPr>
          <a:xfrm>
            <a:off x="2895480" y="2362320"/>
            <a:ext cx="32403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1" descr="0507"/>
          <p:cNvPicPr/>
          <p:nvPr/>
        </p:nvPicPr>
        <p:blipFill>
          <a:blip r:embed="rId1"/>
          <a:stretch/>
        </p:blipFill>
        <p:spPr>
          <a:xfrm>
            <a:off x="2895480" y="2362320"/>
            <a:ext cx="3240360" cy="44193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ontrols the flow of substances that can pass freely across the membra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517680" y="1447920"/>
            <a:ext cx="832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-the movement of molecules or ions down a concentration grad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715480" y="3352680"/>
            <a:ext cx="375444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es diffusion occ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ontrols the flow of substances that can pass freely across the membra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304920" y="1295280"/>
            <a:ext cx="5197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 occurs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es are always in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 they col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ill collide more if they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w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ollisions tend to sp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m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 of a substance across a membrane does not require energy….. It is consider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ssive transp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1" descr="0507"/>
          <p:cNvPicPr/>
          <p:nvPr/>
        </p:nvPicPr>
        <p:blipFill>
          <a:blip r:embed="rId1"/>
          <a:stretch/>
        </p:blipFill>
        <p:spPr>
          <a:xfrm>
            <a:off x="5599080" y="2209680"/>
            <a:ext cx="3240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ontrols the flow of substances that can pass freely across the membra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517680" y="1660680"/>
            <a:ext cx="83214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quickly a substances diffuses depends on several factor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eepness of the concentration grad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r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0" y="1587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things can pass freely across the membrane while others cann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1" descr="0506"/>
          <p:cNvPicPr/>
          <p:nvPr/>
        </p:nvPicPr>
        <p:blipFill>
          <a:blip r:embed="rId1"/>
          <a:stretch/>
        </p:blipFill>
        <p:spPr>
          <a:xfrm>
            <a:off x="88920" y="1638360"/>
            <a:ext cx="8964720" cy="52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0" y="1587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things can pass freely across the membrane while others cann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1" descr="0506"/>
          <p:cNvPicPr/>
          <p:nvPr/>
        </p:nvPicPr>
        <p:blipFill>
          <a:blip r:embed="rId1"/>
          <a:stretch/>
        </p:blipFill>
        <p:spPr>
          <a:xfrm>
            <a:off x="88920" y="1638360"/>
            <a:ext cx="8964720" cy="52261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066680" y="2987640"/>
            <a:ext cx="702648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molecules and ions that cannot freely cross the bilayer on their own enter or exit a c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0" y="1587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things can pass freely across the membrane while others cann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1" descr="0506"/>
          <p:cNvPicPr/>
          <p:nvPr/>
        </p:nvPicPr>
        <p:blipFill>
          <a:blip r:embed="rId1"/>
          <a:stretch/>
        </p:blipFill>
        <p:spPr>
          <a:xfrm>
            <a:off x="88920" y="1638360"/>
            <a:ext cx="8964720" cy="52261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1066680" y="2987640"/>
            <a:ext cx="731520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molecules and ions that cannot freely cross the bilayer on their own enter or exit a c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2058480" y="4238640"/>
            <a:ext cx="4863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help of transport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exocytosis and endocyt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structure and function of cellular membra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different entities cross the plasma membra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4"/>
          <p:cNvSpPr/>
          <p:nvPr/>
        </p:nvSpPr>
        <p:spPr>
          <a:xfrm>
            <a:off x="0" y="1295280"/>
            <a:ext cx="5943600" cy="65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ansport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permeability depends on membrane structure AND presence of transport prote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of transport protein moves a certain molecule across a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several types of transport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nel proteins (hydrophilic chann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on channels allow ions to cross the membrane (many are ga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rier proteins bind with passenger molecules, change shape and then let the passengers out on the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do molecules and ions that cannot freely cross the bilayer on their own enter and exit a cel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0" descr="07_15FacilitatedDiffusion-U"/>
          <p:cNvPicPr/>
          <p:nvPr/>
        </p:nvPicPr>
        <p:blipFill>
          <a:blip r:embed="rId1"/>
          <a:stretch/>
        </p:blipFill>
        <p:spPr>
          <a:xfrm>
            <a:off x="5506920" y="1752480"/>
            <a:ext cx="363708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3"/>
          <p:cNvSpPr/>
          <p:nvPr/>
        </p:nvSpPr>
        <p:spPr>
          <a:xfrm>
            <a:off x="0" y="1378080"/>
            <a:ext cx="9144000" cy="46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two kinds of trans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1.)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assive Transpo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concentration gradient drives the diffusion of a substance across a membrane with the assistance of a membrane protein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energy is requi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e. gluc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2.)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ctive Trans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membrane protein assists in the transportation of a solute against its concentration gradi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s ener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cells to maintain different internal condi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highered.mcgraw-hill.com/sites/0072495855/student_view0/chapter2/animation__how_the_sodium_potassium_pump_works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do molecules and ions that cannot freely cross the bilayer on their own enter and exit a cel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0" y="1295280"/>
            <a:ext cx="9144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on active transpor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ctrogenic pumps create a membrane potential (electrical potential energy due to a separation of opposite charg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forces drive the passage of ions across a membrane: concentration gradient and charge (electrochemical gradi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do molecules and ions that cannot freely cross the bilayer on their own enter and exit a cel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07_18ElectrogenicPump-U"/>
          <p:cNvPicPr/>
          <p:nvPr/>
        </p:nvPicPr>
        <p:blipFill>
          <a:blip r:embed="rId1"/>
          <a:stretch/>
        </p:blipFill>
        <p:spPr>
          <a:xfrm>
            <a:off x="1684440" y="3200400"/>
            <a:ext cx="5783040" cy="36576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4724280" y="3276720"/>
            <a:ext cx="2849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UI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5889600" y="3962520"/>
            <a:ext cx="434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6216480" y="4465800"/>
            <a:ext cx="489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5743440" y="5181480"/>
            <a:ext cx="428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3789360" y="4599000"/>
            <a:ext cx="11872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ton pum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5187960" y="4003560"/>
            <a:ext cx="135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5300640" y="5234040"/>
            <a:ext cx="135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6665760" y="5486400"/>
            <a:ext cx="420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6"/>
          <p:cNvSpPr/>
          <p:nvPr/>
        </p:nvSpPr>
        <p:spPr>
          <a:xfrm>
            <a:off x="5683320" y="6172200"/>
            <a:ext cx="488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7"/>
          <p:cNvSpPr/>
          <p:nvPr/>
        </p:nvSpPr>
        <p:spPr>
          <a:xfrm>
            <a:off x="5235480" y="5773680"/>
            <a:ext cx="1335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5122800" y="6402240"/>
            <a:ext cx="135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2565360" y="4770360"/>
            <a:ext cx="406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3325680" y="3363840"/>
            <a:ext cx="135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3430440" y="3916440"/>
            <a:ext cx="1335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2"/>
          <p:cNvSpPr/>
          <p:nvPr/>
        </p:nvSpPr>
        <p:spPr>
          <a:xfrm>
            <a:off x="3511440" y="5210280"/>
            <a:ext cx="135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3"/>
          <p:cNvSpPr/>
          <p:nvPr/>
        </p:nvSpPr>
        <p:spPr>
          <a:xfrm>
            <a:off x="3438360" y="5749920"/>
            <a:ext cx="135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4"/>
          <p:cNvSpPr/>
          <p:nvPr/>
        </p:nvSpPr>
        <p:spPr>
          <a:xfrm>
            <a:off x="2438280" y="3886200"/>
            <a:ext cx="727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5"/>
          <p:cNvSpPr/>
          <p:nvPr/>
        </p:nvSpPr>
        <p:spPr>
          <a:xfrm>
            <a:off x="1752480" y="6066000"/>
            <a:ext cx="1981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YTOPLAS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6"/>
          <p:cNvSpPr/>
          <p:nvPr/>
        </p:nvSpPr>
        <p:spPr>
          <a:xfrm>
            <a:off x="3335400" y="6377040"/>
            <a:ext cx="135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of passive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4"/>
          <p:cNvGrpSpPr/>
          <p:nvPr/>
        </p:nvGrpSpPr>
        <p:grpSpPr>
          <a:xfrm>
            <a:off x="1371600" y="1676520"/>
            <a:ext cx="6553080" cy="4800600"/>
            <a:chOff x="1371600" y="1676520"/>
            <a:chExt cx="6553080" cy="4800600"/>
          </a:xfrm>
        </p:grpSpPr>
        <p:pic>
          <p:nvPicPr>
            <p:cNvPr id="227" name="Picture 5" descr="07_17PassiveActiveTrans-U"/>
            <p:cNvPicPr/>
            <p:nvPr/>
          </p:nvPicPr>
          <p:blipFill>
            <a:blip r:embed="rId1"/>
            <a:stretch/>
          </p:blipFill>
          <p:spPr>
            <a:xfrm>
              <a:off x="1371600" y="1676520"/>
              <a:ext cx="655308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 Box 6"/>
            <p:cNvSpPr/>
            <p:nvPr/>
          </p:nvSpPr>
          <p:spPr>
            <a:xfrm>
              <a:off x="2523600" y="1685520"/>
              <a:ext cx="193140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assive transpor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7"/>
            <p:cNvSpPr/>
            <p:nvPr/>
          </p:nvSpPr>
          <p:spPr>
            <a:xfrm rot="16213200">
              <a:off x="3286800" y="19800"/>
              <a:ext cx="198000" cy="3861000"/>
            </a:xfrm>
            <a:custGeom>
              <a:avLst/>
              <a:gdLst>
                <a:gd name="textAreaLeft" fmla="*/ 0 w 198000"/>
                <a:gd name="textAreaRight" fmla="*/ 71280 w 198000"/>
                <a:gd name="textAreaTop" fmla="*/ 100440 h 3861000"/>
                <a:gd name="textAreaBottom" fmla="*/ 3760560 h 386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8"/>
            <p:cNvSpPr/>
            <p:nvPr/>
          </p:nvSpPr>
          <p:spPr>
            <a:xfrm rot="16172400">
              <a:off x="4084200" y="3457080"/>
              <a:ext cx="135360" cy="2224800"/>
            </a:xfrm>
            <a:custGeom>
              <a:avLst/>
              <a:gdLst>
                <a:gd name="textAreaLeft" fmla="*/ 86400 w 135360"/>
                <a:gd name="textAreaRight" fmla="*/ 135720 w 135360"/>
                <a:gd name="textAreaTop" fmla="*/ 57960 h 2224800"/>
                <a:gd name="textAreaBottom" fmla="*/ 2166840 h 222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9"/>
            <p:cNvSpPr/>
            <p:nvPr/>
          </p:nvSpPr>
          <p:spPr>
            <a:xfrm>
              <a:off x="1449000" y="4694040"/>
              <a:ext cx="98388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ffusion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0"/>
            <p:cNvSpPr/>
            <p:nvPr/>
          </p:nvSpPr>
          <p:spPr>
            <a:xfrm>
              <a:off x="3066480" y="4692960"/>
              <a:ext cx="213444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Facilitated diffusion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11"/>
            <p:cNvSpPr/>
            <p:nvPr/>
          </p:nvSpPr>
          <p:spPr>
            <a:xfrm>
              <a:off x="5880240" y="1692720"/>
              <a:ext cx="169488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ctive transpor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2"/>
            <p:cNvSpPr/>
            <p:nvPr/>
          </p:nvSpPr>
          <p:spPr>
            <a:xfrm>
              <a:off x="6023160" y="4477680"/>
              <a:ext cx="43308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6"/>
          <p:cNvGrpSpPr/>
          <p:nvPr/>
        </p:nvGrpSpPr>
        <p:grpSpPr>
          <a:xfrm>
            <a:off x="762120" y="228600"/>
            <a:ext cx="7772400" cy="6781680"/>
            <a:chOff x="762120" y="228600"/>
            <a:chExt cx="7772400" cy="6781680"/>
          </a:xfrm>
        </p:grpSpPr>
        <p:pic>
          <p:nvPicPr>
            <p:cNvPr id="236" name="Picture1" descr="0508de"/>
            <p:cNvPicPr/>
            <p:nvPr/>
          </p:nvPicPr>
          <p:blipFill>
            <a:blip r:embed="rId1"/>
            <a:stretch/>
          </p:blipFill>
          <p:spPr>
            <a:xfrm>
              <a:off x="973080" y="304920"/>
              <a:ext cx="7196040" cy="67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Rectangle 5"/>
            <p:cNvSpPr/>
            <p:nvPr/>
          </p:nvSpPr>
          <p:spPr>
            <a:xfrm>
              <a:off x="762120" y="228600"/>
              <a:ext cx="7772400" cy="342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Text Box 2"/>
          <p:cNvSpPr/>
          <p:nvPr/>
        </p:nvSpPr>
        <p:spPr>
          <a:xfrm>
            <a:off x="0" y="1371600"/>
            <a:ext cx="914400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xocyto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esicle moves to the cell’s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membrane fuses with the plasma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s of the vesicle are released outside of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0" y="272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lk trans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7"/>
          <p:cNvGrpSpPr/>
          <p:nvPr/>
        </p:nvGrpSpPr>
        <p:grpSpPr>
          <a:xfrm>
            <a:off x="762120" y="3581280"/>
            <a:ext cx="7772400" cy="6705720"/>
            <a:chOff x="762120" y="3581280"/>
            <a:chExt cx="7772400" cy="6705720"/>
          </a:xfrm>
        </p:grpSpPr>
        <p:pic>
          <p:nvPicPr>
            <p:cNvPr id="241" name="Picture1" descr="0508de"/>
            <p:cNvPicPr/>
            <p:nvPr/>
          </p:nvPicPr>
          <p:blipFill>
            <a:blip r:embed="rId1"/>
            <a:stretch/>
          </p:blipFill>
          <p:spPr>
            <a:xfrm>
              <a:off x="973080" y="3581280"/>
              <a:ext cx="7196040" cy="670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Rectangle 4"/>
            <p:cNvSpPr/>
            <p:nvPr/>
          </p:nvSpPr>
          <p:spPr>
            <a:xfrm>
              <a:off x="762120" y="6705720"/>
              <a:ext cx="7772400" cy="342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 Box 5"/>
          <p:cNvSpPr/>
          <p:nvPr/>
        </p:nvSpPr>
        <p:spPr>
          <a:xfrm>
            <a:off x="0" y="1447920"/>
            <a:ext cx="914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ndocyto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ances near the cell’s surface are taken into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 section of plasma membrane balloons inward and then pinche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s are now vesicles which are delivered to their destination within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0" y="272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lk trans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762120" y="3581280"/>
            <a:ext cx="7772400" cy="6705720"/>
            <a:chOff x="762120" y="3581280"/>
            <a:chExt cx="7772400" cy="6705720"/>
          </a:xfrm>
        </p:grpSpPr>
        <p:pic>
          <p:nvPicPr>
            <p:cNvPr id="246" name="Picture1" descr="0508de"/>
            <p:cNvPicPr/>
            <p:nvPr/>
          </p:nvPicPr>
          <p:blipFill>
            <a:blip r:embed="rId1"/>
            <a:stretch/>
          </p:blipFill>
          <p:spPr>
            <a:xfrm>
              <a:off x="973080" y="3581280"/>
              <a:ext cx="7196040" cy="670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Rectangle 4"/>
            <p:cNvSpPr/>
            <p:nvPr/>
          </p:nvSpPr>
          <p:spPr>
            <a:xfrm>
              <a:off x="762120" y="6705720"/>
              <a:ext cx="7772400" cy="342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Text Box 5"/>
          <p:cNvSpPr/>
          <p:nvPr/>
        </p:nvSpPr>
        <p:spPr>
          <a:xfrm>
            <a:off x="0" y="1447920"/>
            <a:ext cx="914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ndocyto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ances near the cell’s surface are taken into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 section of plasma membrane balloons inward and then pinche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s are now vesicles which are delivered to their destination within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1371600" y="2257560"/>
            <a:ext cx="649296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endo and exocytosis involve motor proteins and require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0" y="272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lk trans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ke-home mess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hould understa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ranes are composed of a lipid bi-layer and are selectively perme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fference between active and passive transport and give an example of bo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7"/>
          <p:cNvGrpSpPr/>
          <p:nvPr/>
        </p:nvGrpSpPr>
        <p:grpSpPr>
          <a:xfrm>
            <a:off x="457200" y="990720"/>
            <a:ext cx="8221680" cy="5867280"/>
            <a:chOff x="457200" y="990720"/>
            <a:chExt cx="8221680" cy="5867280"/>
          </a:xfrm>
        </p:grpSpPr>
        <p:pic>
          <p:nvPicPr>
            <p:cNvPr id="55" name="Picture1" descr="0502c"/>
            <p:cNvPicPr/>
            <p:nvPr/>
          </p:nvPicPr>
          <p:blipFill>
            <a:blip r:embed="rId1"/>
            <a:stretch/>
          </p:blipFill>
          <p:spPr>
            <a:xfrm>
              <a:off x="457200" y="1066680"/>
              <a:ext cx="8221680" cy="565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6"/>
            <p:cNvSpPr/>
            <p:nvPr/>
          </p:nvSpPr>
          <p:spPr>
            <a:xfrm>
              <a:off x="457200" y="990720"/>
              <a:ext cx="4648320" cy="586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 Box 8"/>
          <p:cNvSpPr/>
          <p:nvPr/>
        </p:nvSpPr>
        <p:spPr>
          <a:xfrm>
            <a:off x="365040" y="1266840"/>
            <a:ext cx="4587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ell membrane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ly separate a cell from its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what goes in and out of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siting the lipid bi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960" y="457200"/>
            <a:ext cx="41907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ell membrane 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laced in water, phospholipids form into two laye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the nature of the molec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philic (water loving) heads face the outside of the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phobic (water hating) tails are in the interi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s is the framework of all membran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05_14PhospholipidBilayer-U"/>
          <p:cNvPicPr/>
          <p:nvPr/>
        </p:nvPicPr>
        <p:blipFill>
          <a:blip r:embed="rId1"/>
          <a:stretch/>
        </p:blipFill>
        <p:spPr>
          <a:xfrm>
            <a:off x="4800600" y="3992400"/>
            <a:ext cx="4191120" cy="2637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1" descr="0502ab"/>
          <p:cNvPicPr/>
          <p:nvPr/>
        </p:nvPicPr>
        <p:blipFill>
          <a:blip r:embed="rId2"/>
          <a:stretch/>
        </p:blipFill>
        <p:spPr>
          <a:xfrm>
            <a:off x="5715000" y="990720"/>
            <a:ext cx="2824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1" descr="0502ab"/>
          <p:cNvPicPr/>
          <p:nvPr/>
        </p:nvPicPr>
        <p:blipFill>
          <a:blip r:embed="rId1"/>
          <a:stretch/>
        </p:blipFill>
        <p:spPr>
          <a:xfrm>
            <a:off x="5715000" y="990720"/>
            <a:ext cx="2824200" cy="2971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id mosaic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05_14PhospholipidBilayer-U"/>
          <p:cNvPicPr/>
          <p:nvPr/>
        </p:nvPicPr>
        <p:blipFill>
          <a:blip r:embed="rId2"/>
          <a:stretch/>
        </p:blipFill>
        <p:spPr>
          <a:xfrm>
            <a:off x="4800600" y="3992400"/>
            <a:ext cx="4191120" cy="2637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9"/>
          <p:cNvSpPr/>
          <p:nvPr/>
        </p:nvSpPr>
        <p:spPr>
          <a:xfrm>
            <a:off x="974880" y="2216160"/>
            <a:ext cx="6873840" cy="82548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uid because most of the components of the cell membrane move laterally within the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1" descr="0502ab"/>
          <p:cNvPicPr/>
          <p:nvPr/>
        </p:nvPicPr>
        <p:blipFill>
          <a:blip r:embed="rId1"/>
          <a:stretch/>
        </p:blipFill>
        <p:spPr>
          <a:xfrm>
            <a:off x="5715000" y="990720"/>
            <a:ext cx="2824200" cy="2971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id mosaic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05_14PhospholipidBilayer-U"/>
          <p:cNvPicPr/>
          <p:nvPr/>
        </p:nvPicPr>
        <p:blipFill>
          <a:blip r:embed="rId2"/>
          <a:stretch/>
        </p:blipFill>
        <p:spPr>
          <a:xfrm>
            <a:off x="4800600" y="3992400"/>
            <a:ext cx="4191120" cy="2637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974880" y="3587760"/>
            <a:ext cx="6873840" cy="155700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aic because the membrane contains a mixture of  substances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lest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974880" y="2216160"/>
            <a:ext cx="6873840" cy="82548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uid because most of the components of the cell membrane move laterally within the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brane proteins and thei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80880" y="1425600"/>
            <a:ext cx="8458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two types of membrane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gral-penetrate the hydrophobic core of the lipid bi-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me span the entire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iph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embedded in the bi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ipheral append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 hidden="1"/>
          <p:cNvSpPr/>
          <p:nvPr/>
        </p:nvSpPr>
        <p:spPr>
          <a:xfrm>
            <a:off x="403200" y="1577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7732800" y="7888320"/>
            <a:ext cx="14479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5-5, pp. 80-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8"/>
          <p:cNvSpPr/>
          <p:nvPr/>
        </p:nvSpPr>
        <p:spPr>
          <a:xfrm>
            <a:off x="7869240" y="7628040"/>
            <a:ext cx="1216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Stepped 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29"/>
          <p:cNvGrpSpPr/>
          <p:nvPr/>
        </p:nvGrpSpPr>
        <p:grpSpPr>
          <a:xfrm>
            <a:off x="63360" y="4152960"/>
            <a:ext cx="1460520" cy="4305240"/>
            <a:chOff x="63360" y="4152960"/>
            <a:chExt cx="1460520" cy="4305240"/>
          </a:xfrm>
        </p:grpSpPr>
        <p:pic>
          <p:nvPicPr>
            <p:cNvPr id="77" name="Picture 30" descr="0505_E"/>
            <p:cNvPicPr/>
            <p:nvPr/>
          </p:nvPicPr>
          <p:blipFill>
            <a:blip r:embed="rId1"/>
            <a:stretch/>
          </p:blipFill>
          <p:spPr>
            <a:xfrm>
              <a:off x="63360" y="4152960"/>
              <a:ext cx="1352520" cy="386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31"/>
            <p:cNvSpPr/>
            <p:nvPr/>
          </p:nvSpPr>
          <p:spPr>
            <a:xfrm>
              <a:off x="152280" y="80917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1b9"/>
                  </a:solidFill>
                  <a:latin typeface="Arial"/>
                </a:rPr>
                <a:t>Adhesion Prote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32"/>
          <p:cNvGrpSpPr/>
          <p:nvPr/>
        </p:nvGrpSpPr>
        <p:grpSpPr>
          <a:xfrm>
            <a:off x="1409760" y="4160880"/>
            <a:ext cx="1487520" cy="4297320"/>
            <a:chOff x="1409760" y="4160880"/>
            <a:chExt cx="1487520" cy="4297320"/>
          </a:xfrm>
        </p:grpSpPr>
        <p:pic>
          <p:nvPicPr>
            <p:cNvPr id="80" name="Picture 33" descr="0505_E copy"/>
            <p:cNvPicPr/>
            <p:nvPr/>
          </p:nvPicPr>
          <p:blipFill>
            <a:blip r:embed="rId2"/>
            <a:stretch/>
          </p:blipFill>
          <p:spPr>
            <a:xfrm>
              <a:off x="1409760" y="4160880"/>
              <a:ext cx="1487520" cy="38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34"/>
            <p:cNvSpPr/>
            <p:nvPr/>
          </p:nvSpPr>
          <p:spPr>
            <a:xfrm>
              <a:off x="1600200" y="8091720"/>
              <a:ext cx="11095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1b9"/>
                  </a:solidFill>
                  <a:latin typeface="Arial"/>
                </a:rPr>
                <a:t>Enzy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35"/>
          <p:cNvGrpSpPr/>
          <p:nvPr/>
        </p:nvGrpSpPr>
        <p:grpSpPr>
          <a:xfrm>
            <a:off x="2819520" y="4148280"/>
            <a:ext cx="2087280" cy="4309920"/>
            <a:chOff x="2819520" y="4148280"/>
            <a:chExt cx="2087280" cy="4309920"/>
          </a:xfrm>
        </p:grpSpPr>
        <p:pic>
          <p:nvPicPr>
            <p:cNvPr id="83" name="Picture 36" descr="0505_E copy 1"/>
            <p:cNvPicPr/>
            <p:nvPr/>
          </p:nvPicPr>
          <p:blipFill>
            <a:blip r:embed="rId3"/>
            <a:stretch/>
          </p:blipFill>
          <p:spPr>
            <a:xfrm>
              <a:off x="2898720" y="4148280"/>
              <a:ext cx="142560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37"/>
            <p:cNvSpPr/>
            <p:nvPr/>
          </p:nvSpPr>
          <p:spPr>
            <a:xfrm>
              <a:off x="2819520" y="8091720"/>
              <a:ext cx="2087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1b9"/>
                  </a:solidFill>
                  <a:latin typeface="Arial"/>
                </a:rPr>
                <a:t>Receptor Prote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4329000" y="4156200"/>
            <a:ext cx="1919520" cy="4302000"/>
            <a:chOff x="4329000" y="4156200"/>
            <a:chExt cx="1919520" cy="4302000"/>
          </a:xfrm>
        </p:grpSpPr>
        <p:pic>
          <p:nvPicPr>
            <p:cNvPr id="86" name="Picture 39" descr="0505_E copy 2"/>
            <p:cNvPicPr/>
            <p:nvPr/>
          </p:nvPicPr>
          <p:blipFill>
            <a:blip r:embed="rId4"/>
            <a:stretch/>
          </p:blipFill>
          <p:spPr>
            <a:xfrm>
              <a:off x="4329000" y="4156200"/>
              <a:ext cx="1389240" cy="383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40"/>
            <p:cNvSpPr/>
            <p:nvPr/>
          </p:nvSpPr>
          <p:spPr>
            <a:xfrm>
              <a:off x="4516560" y="8091720"/>
              <a:ext cx="173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1b9"/>
                  </a:solidFill>
                  <a:latin typeface="Arial"/>
                </a:rPr>
                <a:t>Recognition Prote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41"/>
          <p:cNvGrpSpPr/>
          <p:nvPr/>
        </p:nvGrpSpPr>
        <p:grpSpPr>
          <a:xfrm>
            <a:off x="5722920" y="4172040"/>
            <a:ext cx="2201760" cy="4286160"/>
            <a:chOff x="5722920" y="4172040"/>
            <a:chExt cx="2201760" cy="4286160"/>
          </a:xfrm>
        </p:grpSpPr>
        <p:pic>
          <p:nvPicPr>
            <p:cNvPr id="89" name="Picture 42" descr="0505_E copy 3"/>
            <p:cNvPicPr/>
            <p:nvPr/>
          </p:nvPicPr>
          <p:blipFill>
            <a:blip r:embed="rId5"/>
            <a:stretch/>
          </p:blipFill>
          <p:spPr>
            <a:xfrm>
              <a:off x="5722920" y="4172040"/>
              <a:ext cx="2025720" cy="38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43"/>
            <p:cNvSpPr/>
            <p:nvPr/>
          </p:nvSpPr>
          <p:spPr>
            <a:xfrm>
              <a:off x="6172200" y="8091720"/>
              <a:ext cx="17524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1b9"/>
                  </a:solidFill>
                  <a:latin typeface="Arial"/>
                </a:rPr>
                <a:t>Passive Transpor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44"/>
          <p:cNvGrpSpPr/>
          <p:nvPr/>
        </p:nvGrpSpPr>
        <p:grpSpPr>
          <a:xfrm>
            <a:off x="7745400" y="4172040"/>
            <a:ext cx="1322280" cy="4286160"/>
            <a:chOff x="7745400" y="4172040"/>
            <a:chExt cx="1322280" cy="4286160"/>
          </a:xfrm>
        </p:grpSpPr>
        <p:pic>
          <p:nvPicPr>
            <p:cNvPr id="92" name="Picture 45" descr="0505_E copy 4"/>
            <p:cNvPicPr/>
            <p:nvPr/>
          </p:nvPicPr>
          <p:blipFill>
            <a:blip r:embed="rId6"/>
            <a:stretch/>
          </p:blipFill>
          <p:spPr>
            <a:xfrm>
              <a:off x="7745400" y="4172040"/>
              <a:ext cx="1273320" cy="384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6"/>
            <p:cNvSpPr/>
            <p:nvPr/>
          </p:nvSpPr>
          <p:spPr>
            <a:xfrm>
              <a:off x="7848720" y="8091720"/>
              <a:ext cx="1218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1b9"/>
                  </a:solidFill>
                  <a:latin typeface="Arial"/>
                </a:rPr>
                <a:t>Active Transpor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47"/>
          <p:cNvSpPr/>
          <p:nvPr/>
        </p:nvSpPr>
        <p:spPr>
          <a:xfrm>
            <a:off x="5794560" y="3962520"/>
            <a:ext cx="28202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phobic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8"/>
          <p:cNvSpPr/>
          <p:nvPr/>
        </p:nvSpPr>
        <p:spPr>
          <a:xfrm>
            <a:off x="3356640" y="6172200"/>
            <a:ext cx="26161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philic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9"/>
          <p:cNvSpPr/>
          <p:nvPr/>
        </p:nvSpPr>
        <p:spPr>
          <a:xfrm>
            <a:off x="5867280" y="6400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0"/>
          <p:cNvSpPr/>
          <p:nvPr/>
        </p:nvSpPr>
        <p:spPr>
          <a:xfrm flipH="1">
            <a:off x="7009920" y="4419720"/>
            <a:ext cx="3049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0" y="1219320"/>
            <a:ext cx="4038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por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act as enzymes (periphe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al trans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gnition prote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sten cells to adjacent cel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 hidden="1"/>
          <p:cNvSpPr/>
          <p:nvPr/>
        </p:nvSpPr>
        <p:spPr>
          <a:xfrm>
            <a:off x="403200" y="1577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brane proteins and thei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7" descr="07_09-MembProteinFunction-U"/>
          <p:cNvPicPr/>
          <p:nvPr/>
        </p:nvPicPr>
        <p:blipFill>
          <a:blip r:embed="rId1"/>
          <a:stretch/>
        </p:blipFill>
        <p:spPr>
          <a:xfrm>
            <a:off x="3836880" y="1295280"/>
            <a:ext cx="5307120" cy="50450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8"/>
          <p:cNvSpPr/>
          <p:nvPr/>
        </p:nvSpPr>
        <p:spPr>
          <a:xfrm>
            <a:off x="3879720" y="3333600"/>
            <a:ext cx="93672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)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9"/>
          <p:cNvSpPr/>
          <p:nvPr/>
        </p:nvSpPr>
        <p:spPr>
          <a:xfrm>
            <a:off x="5005440" y="2971800"/>
            <a:ext cx="70956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0"/>
          <p:cNvSpPr/>
          <p:nvPr/>
        </p:nvSpPr>
        <p:spPr>
          <a:xfrm>
            <a:off x="5734080" y="3328920"/>
            <a:ext cx="148284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) Enzymatic a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1"/>
          <p:cNvSpPr/>
          <p:nvPr/>
        </p:nvSpPr>
        <p:spPr>
          <a:xfrm>
            <a:off x="6184800" y="1689120"/>
            <a:ext cx="97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2"/>
          <p:cNvSpPr/>
          <p:nvPr/>
        </p:nvSpPr>
        <p:spPr>
          <a:xfrm>
            <a:off x="7562880" y="3333600"/>
            <a:ext cx="156996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) Signal trans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3"/>
          <p:cNvSpPr/>
          <p:nvPr/>
        </p:nvSpPr>
        <p:spPr>
          <a:xfrm>
            <a:off x="7696080" y="1184400"/>
            <a:ext cx="136044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gnaling molec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4"/>
          <p:cNvSpPr/>
          <p:nvPr/>
        </p:nvSpPr>
        <p:spPr>
          <a:xfrm flipV="1">
            <a:off x="8020080" y="1569960"/>
            <a:ext cx="20808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5"/>
          <p:cNvSpPr/>
          <p:nvPr/>
        </p:nvSpPr>
        <p:spPr>
          <a:xfrm>
            <a:off x="8475840" y="1714680"/>
            <a:ext cx="89676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p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6"/>
          <p:cNvSpPr/>
          <p:nvPr/>
        </p:nvSpPr>
        <p:spPr>
          <a:xfrm flipV="1">
            <a:off x="8288280" y="1784520"/>
            <a:ext cx="152280" cy="12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7"/>
          <p:cNvSpPr/>
          <p:nvPr/>
        </p:nvSpPr>
        <p:spPr>
          <a:xfrm>
            <a:off x="3884760" y="5513400"/>
            <a:ext cx="159048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d) Cell-cell recogn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8"/>
          <p:cNvSpPr/>
          <p:nvPr/>
        </p:nvSpPr>
        <p:spPr>
          <a:xfrm>
            <a:off x="5729400" y="5513400"/>
            <a:ext cx="153828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e) Intercellular jo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7238880" y="5541840"/>
            <a:ext cx="183852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f) Attachment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cytoskele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extracell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trix (EC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brane perme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lasma membrane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lectively perme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1" descr="0506"/>
          <p:cNvPicPr/>
          <p:nvPr/>
        </p:nvPicPr>
        <p:blipFill>
          <a:blip r:embed="rId1"/>
          <a:stretch/>
        </p:blipFill>
        <p:spPr>
          <a:xfrm>
            <a:off x="88920" y="1708200"/>
            <a:ext cx="8964720" cy="52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21:35:45Z</dcterms:created>
  <dc:creator>Alison Varty</dc:creator>
  <dc:description/>
  <dc:language>en-US</dc:language>
  <cp:lastModifiedBy>Morgan karas</cp:lastModifiedBy>
  <dcterms:modified xsi:type="dcterms:W3CDTF">2010-12-09T00:05:25Z</dcterms:modified>
  <cp:revision>11</cp:revision>
  <dc:subject/>
  <dc:title>Organization of cell membranes</dc:title>
</cp:coreProperties>
</file>